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4C9-7F5A-4B48-A580-2356D1EC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F7C-FAAF-4EDC-93E3-DA7A0907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19C9B-1DDB-4274-A8EE-1B32AE9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91B4A-2081-4E33-98CF-C0D568BD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C21A-3B20-4573-8FE2-15982EB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03161-7679-4B92-9302-24BC61A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6565-1E42-457E-AB93-69B6978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E689B-12F3-4A18-88D9-C6AF621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20E21-39D7-44AD-8E9B-5B63FBA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2BF8F-3933-4BA0-82E9-5D4D24EB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DE42-48A0-461D-80F1-7B872180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FB87A-AAC4-4A05-B9A1-F23F99DC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0CC-F1E7-430C-BBED-EB9EB6FB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03232-BBF4-45A8-8ABE-EB31374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35D43-FABF-4007-86B6-3972207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8BF6B-1FA1-418F-9381-E252F7D3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07C7C-C91B-4A41-97B3-8E871922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DA5F2-4474-4FC3-B643-2160048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FA1FB-8631-4167-8318-F89749E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B2D4F-8BB6-44AF-8A85-BE368AC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7DCD-9DFD-46A0-A25C-2E60F32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EBAA7-109A-40ED-9B26-82675398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17611-C0C6-4430-8167-8A23186D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5A5-74E2-42C8-89AE-49C9031C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2D035-C0D2-439D-92E7-D921FB21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5A098-E14F-4A42-8118-81C0C8EA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AA8EB-D9F6-4443-9BBC-CF2AFD0A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A8F3C-5703-4911-9BE7-E28CAA24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6FC8-0642-45EF-81A2-8AB96917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27A91-8EC7-421E-9344-8A622E2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8336-2B68-44F1-8606-4F67ECAA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64EA5-3F4C-45E8-B5DD-0938FC2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6B45-6A4E-4DFD-A86C-B6350FD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6E4C-C937-48B0-8496-109934D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5654-2FA4-4246-A930-E4085A1C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CB0AD-C112-4524-B257-E4B1F879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30F1D-657B-4854-895A-1B5E1F07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7EFC-D48B-4E9B-BE42-D645E4E5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6E08C-90C7-41C9-A28E-BD3F6B4F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F21CB-A800-42F1-99B7-124E1C0A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45E82-7D26-4E4C-B37C-EFE715A0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64DE6-F495-45AF-95D9-964AA08D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60C2-3D6C-4434-A8CB-2D36A5BC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681DA-D50A-4BC4-BD82-6016681F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C6ED-F1B6-436F-9B63-49CED5F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DE57-52D7-418F-8ECF-A3B63CF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F0C1A-9FFF-4E5B-9ABD-41B06DA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3454A-1304-4C44-8C7B-AE6E137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DE7A8-5184-4B9E-ADF0-0ADC271E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0BBB5-DCF8-4893-8A74-472DFBBE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DBA80-EFEC-4E73-BD5E-4C52891C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C1DD9-DD47-4D80-9287-C2D3D6E6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2CA93-0364-4F02-BEC2-0391E11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7C07E-2116-4B44-9BB1-F74BF89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02E9F-1635-45C4-860A-8C1FA52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B4F55-3565-4D49-869C-9C4A8B2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2AC4-D289-4F9B-9867-815152C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45845-931D-4926-BD01-DA2B57CF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FA6DA-E835-47B9-B368-7D86107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A7259-674F-4918-9D89-FE89B30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80660-3FF6-4594-8A78-5666D6C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CCDEB-83DF-4D4D-B777-60CF26B5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B422E-6877-4DA3-BA94-39656FDD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20BE4-AB0C-4527-965C-F8A13AD5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0773A-83AE-4822-B153-F049ED24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3B377-C5F0-47ED-9662-BF648C28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86737-02F8-49E1-838B-7A60E9C8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111E-DA1D-40EE-BE9C-5F96566F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C13E5-9E88-4BA1-9483-F667BFE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52CB1-E303-4FB2-99A0-FE039EAB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3C700-C948-424D-B0CD-277A6727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942AD-15B3-433B-9A1C-87633D7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5F27D-D63E-4EE5-AE78-C403D76B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FFDC9-BBB0-48B0-BA01-0C4A33B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8F7D5-7FC1-4851-AB09-5D1289A6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24082-25EA-4FA2-AC1B-264FCBEF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69C63-280B-4290-99C1-EF4AB03C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D3B5E-A07B-4B82-B726-DE9F08D9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578-0816-44BC-9589-D387334B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A3E5C-5DD7-4D8C-A2D5-DAA6934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5BE94-71C5-4BCB-AE77-D9A984FD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32DA0-7AA5-4511-B18F-1BBE72DE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B4186-B7D0-4931-9A24-7AD3671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FB54D-D0B1-411B-AB68-9A0F026B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9B51E-B924-42D4-9D2C-F64C2F0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1B494-69D4-4E09-955A-718DB5D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8C859-108E-47B4-B2E4-58812AE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6D726-954E-4E3E-96C6-FFB43BB0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E7255-125D-48BE-A39E-0480EE89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3FD6-01D1-4E4D-9868-FA6A6EB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4B8EC-41E2-4288-BD9E-5D7492FF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DE8E7-B626-44B7-8362-3AE4CFFC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E6F41-9E33-4236-A24C-71DFC0D7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620C7-FDC8-4DEE-B268-AC519E2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6D215-EDA7-474A-A5F0-46635D9C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02838-25A5-4238-ADFA-359A72EA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F38FF-DFB0-4561-B303-5CCC114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03BF2-C593-4744-B112-5471511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71A5C-28B5-4F48-BEFF-761FCBD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5D41C-5074-4A4B-92E9-2A4BF3A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A5C8-AB12-4C48-AD9B-15B90EAC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82BA8-67F3-44D6-8402-7F90372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AE16A-88DB-4B22-A023-51D3F95D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B87F9-EB5F-4176-A8A3-43268A3C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56178-7148-4F73-8283-4FDF90C9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E2090-2717-42B3-BAB7-0D4CFB1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8E099-7FDA-4AA7-8772-A69293F8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78D53-3F3E-43BB-A65E-FEB05FFC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81CDA-8713-4CBE-ADCA-FF00BD7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AEC88-8C44-4ABF-A194-19FF430B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C01B5-03E1-42E6-8E0C-EFB426DB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9E1-4172-43E6-A6CC-A4E95C0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A14B-D221-45A5-97F1-BD7B9FD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7F91A-0FE9-4F73-93C0-78AF257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75800-5ABC-4079-A122-EFBB299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4CAA1-786E-42E9-BE71-374DD651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386D5-1BFA-404B-B692-EB46024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926B8-13F4-40AD-B79D-6CF6D0C1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99C8E-3230-45CF-BECF-D6B739DF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3CC69-CA17-4C89-BAAB-821AACB5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69E49-DA29-4E3D-9134-9ADE086D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0A475-4FE3-4DA4-A496-32CBB93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079D8-E5B1-4D8D-BF62-F384E92A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2615-1256-44B0-819C-D62A7C1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B6F97-4CF5-4501-B7AA-5191BD5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4945D-EB0C-4FFB-950C-749147B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2F5A1-8CDB-45DB-8442-2649C7C8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6E5EA-A135-4E3A-AA3C-64481AE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19A52-3E45-4605-8655-3BA9EEE3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700AD-6CC5-48BA-9960-8AAA6D4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E8D17-6628-4C34-9702-AB426FFD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E467D-F88B-4D99-843B-836E72B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F114F-9050-4A98-81A8-0A45C9BA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097AB-90C1-491F-99E8-53D1580F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9111-3B03-4732-9ED3-AA4F2AC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EBC8A-D71D-4AA6-A134-7067D8C0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71745-187F-46DB-80ED-B98E2DB9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B2819-BE57-4FCC-833C-B36D389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35548-572C-4A15-AEAD-87C6454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FF238-644F-4914-8EE3-C3654B5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BB633-E4B9-4C4E-AF37-B4D7C0E5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E7777-FFDD-49C9-9D9E-17104FF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6CDB0-D7F6-455A-8C6E-B94CE951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563CF-EF89-4B9C-BE95-6B50E6C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E82A7-2274-42C3-BF07-1AA59A4C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407-FA1A-4FFB-99F9-8E84C1F7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895F8-52D2-4E91-A583-566D415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ED951-3A01-408E-8953-B3A2F34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2FA5B-179D-4820-B840-C694356F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0A88D-9631-4A69-B67F-FDF1B52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6F837-901F-4494-975F-7D8D6BD0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46899-F22C-423A-A628-F872CEF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A4979-71B1-44C4-9920-D6D98956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E694B-613E-4890-AB6E-ABCE75C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9BCEB-9A53-4B7E-9378-CF50031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4C354-3EB3-40C8-9E9F-C519F08E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BA7E-E331-41B2-95DD-36FF81D5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66E8A-CF29-4B64-B834-DC04AE52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C8297-3375-443C-A693-FC822B05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B883F-5F79-4B6C-A7AA-9B90B6C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80020-C747-44C1-8095-605D4C4A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C307A-FC1F-40EB-86E1-64985B4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5EABF-D40B-4C28-96AD-D05BF6E4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58244-75CF-4167-B543-8223206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9A6BC-1863-46BC-8916-3E8931C3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5AD8F-6386-4115-B882-6D40842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7E579-62F9-4A14-B0ED-5938262A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8F3B-C5CB-482D-A412-3B916137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A6243-3722-41AD-A23B-BF6C2A3E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3266E-F0D2-49AA-B581-71EB588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6D1FD-B2AB-4F1F-A47B-D58574A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CD00-A941-4191-B5DD-286FF93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41F0-F864-4FF4-BE71-3FDC6DF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2BF6-C1C6-4B9F-977F-D96A0047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3989-CF42-40A7-81ED-F13072A5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F60-E37F-408F-A0E2-D0ED1D14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0EC1-2879-429A-A227-9A66C459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FD98-803B-49AB-B54C-301A6520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6366-8937-47FA-8314-AE9D4F0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E838-FF7C-49C1-A3A0-621EE8A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1E56-409E-4573-BCFE-847C323F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1C47-7A31-4F55-928E-FCD2F35E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E831-2853-45E0-A0DD-8D83DE28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F6FA-3417-4E63-A6D5-7FD77A9C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F4E0-C66B-472B-8656-3920A0D2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8F2F-FCDC-4CD6-9136-EE5C8E8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ED6-5D29-44AD-A73E-0A3A76DD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F3B3-8D00-4F10-B7E0-A7A39FA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A72E-CD6D-4694-AD97-86C96999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D33A-08D8-4AA2-9528-D61CE111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FE88-3920-47AF-AD75-4319D1F6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0843-1758-4108-8E85-94DADD0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C866-5F73-4E46-86B8-93FE9EDB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01AB-4842-4059-A134-0010477B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8373-6298-47C9-AFF8-193CE476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FE7C-C3BA-4EAC-91A6-BFCB4B5C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9B251-4296-41AB-BA31-4F22C11B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823-82A5-43C4-8BBD-C45D5568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2E659-80AE-47D2-B6C5-6D816C32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7B79-71DB-4132-B892-8B749416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03DF-54C6-42C4-BC38-817DEC2E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AE9D-6B04-49E5-ADA4-5EE2AD3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BE0F-CD85-43A4-9AF4-FBE50A32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F4D9-291C-4D70-8FC6-1F160060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35B1D-9D82-4BAB-AF47-258A6C6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D24F-FA71-4CFB-9CD3-87819FC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E9133-1544-46D7-BBDC-6E01D34A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C6DCA-47AF-46D2-B668-64077DB2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949-7B6E-462E-96DA-6B3C28A9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E64C-2769-42C4-81EE-135C9F6E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407F0-F1DC-42FD-AAAE-0C5AEA72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EE57-B188-4E2C-9A06-DCB0144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2400-5751-4F2F-9F21-B0020E21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E19E-25F2-466F-8F82-B06AFB9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F21A-E33C-472E-808B-3D43EAA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9F7F-274A-409F-94D5-4F5A0A86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5B86-DDAC-4A0F-B548-B1450111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81CA4-A0B7-48C6-BB36-F7F12616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9368-B007-4288-B55E-88A0B9C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424-17DB-49C2-9F7D-D6B0CBF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348D-1562-4428-9E32-209B28C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F030-89DE-4D5A-A306-341A7A73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1E8B-E362-4ABC-874D-4C51A8FE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9F22F-65F4-482D-82CB-8B243D1E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5C2B-9EBB-4A16-A2A7-747FD4A9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8D6C-7981-4DAF-958C-926B62D5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64BC-62DF-4727-8438-730889CC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1EB5-DFE8-4D1D-9CBD-C4F702FA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DC08-5305-4698-8CEA-E0B68B2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4FA7-5F76-42EF-ACCF-E4B4FEF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EA2-3382-4CA0-89AC-71F9AC2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2F97A-82D2-4E97-9613-78C3E83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A600-B58B-47B2-A3AF-7A416B4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9DE5-BCB0-4D41-9E21-C29063B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DC91-CA9F-49D2-959E-14FBE905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0290-17F6-4662-BDA1-54736027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1CB5-25BC-4525-914E-D5D51392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29D5-BFE4-410B-83C6-D1F9A469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AE661-8988-4870-9E88-A07B7D33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F9CA4-D3BB-4948-90EC-FA982FC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2C791-F229-4EA7-ABCE-52FA737F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C7F-09A0-4612-8EF9-1445154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4037-C6BE-4B20-9087-65CB1FC6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164C-E847-4E55-B10A-F90BDD0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751FA-55E4-4FEA-BACF-C325FB7A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697E-342D-450E-8132-74DC64F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D29ED-7B25-418C-A410-0963707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95F0-D1A2-4DE8-9E99-C4649716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B58FD-E931-4907-B67D-90FD4CBF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E66B1-21FE-4421-835B-55FBE5C3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254E-295E-41BD-A7A1-52934F61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3C785-EFA7-44DB-9958-31C975AC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42A-48AB-4146-85FD-D05945E2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63C-013D-45F3-BE21-737F5B81D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74E8-DA6B-4786-981A-6C14F3830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FE3-4CBE-4A04-AFF6-98E8C18874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28C-DE72-45FA-9A7B-4615DD110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9E9-BC0E-4F9B-939E-C11502C34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AC92-C3EA-4E2F-9354-723471630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3B61-3587-4C9F-AAD3-8159AC289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FAE8-79DF-45F0-8FC7-249F1714B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C3A6-73A5-4FBD-8B56-1BA9AE71A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1283-0057-4F66-BB26-655D24AADA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2AE0-685D-49BA-AB98-99AA298DA6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8E7-A882-4323-AD23-91FBAFEB4B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40E1-1EAB-4CCE-9DBF-00995D3DA0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6B40-D744-425A-8E26-6B3B6FF800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2B9-4796-47CF-95A9-ACB4EFBBB0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BF7D-3DD0-49B5-BA9E-119BD788E8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990-93A2-4971-ADE7-8A08760472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DC4C-1C06-4394-BE97-8B46192C1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57B8-D628-4B0D-AC76-8785798286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C7C7-7E04-40BC-B2AE-04000FB77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D223-EEB7-4EBC-A7A8-501A34771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3F3E-A539-4D6E-958D-DCB0542FC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75F-2251-4606-990D-C5B39D779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25D1-06E9-40B5-8EF8-272E91F5E5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7B0-FC11-47D3-860D-1854DB4EC4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405-700B-43A5-9DCF-213CAC25C3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AFA9-2624-4A13-AA16-C7558DFB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61C0-93EF-4A9F-9FBF-44E210D38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CED-8400-4CE7-ACB0-02BE67A9A8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BEC-5994-43A2-AB77-3EC5A83ED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42C3-8487-47F8-A930-B1B16C587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C53-1E45-4EB9-9974-A7D1512E4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0ED-3A4F-4027-A63C-8F8420006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79C-6F2B-4454-812A-4725D43B61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7C1-DCA0-4338-81A4-FF149C636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9D00-430A-4D17-9883-7C22DDF59B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781-8816-48E9-8102-5755F2980F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E4E1-C84D-4F74-B646-343046E47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9272-5AE0-42ED-A1D6-FD1B49BE1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500120" y="3214800"/>
            <a:ext cx="5894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3" descr=""/>
          <p:cNvPicPr/>
          <p:nvPr/>
        </p:nvPicPr>
        <p:blipFill>
          <a:blip r:embed="rId1"/>
          <a:stretch/>
        </p:blipFill>
        <p:spPr>
          <a:xfrm>
            <a:off x="81000" y="1085760"/>
            <a:ext cx="8982000" cy="4686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328840" y="2173320"/>
            <a:ext cx="1008000" cy="295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4941720" y="2184480"/>
            <a:ext cx="100836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7667640" y="2173320"/>
            <a:ext cx="1405080" cy="295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2195640" y="253368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4859280" y="2538360"/>
            <a:ext cx="14050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7607160" y="2538360"/>
            <a:ext cx="140364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195640" y="289404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716360" y="288432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2340000" y="360360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5261040" y="360360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7483320" y="3603600"/>
            <a:ext cx="161928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1692360" y="396396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5292720" y="396864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15"/>
          <a:stretch/>
        </p:blipFill>
        <p:spPr>
          <a:xfrm>
            <a:off x="1979640" y="468468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16"/>
          <a:stretch/>
        </p:blipFill>
        <p:spPr>
          <a:xfrm>
            <a:off x="4957920" y="4673520"/>
            <a:ext cx="140472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17"/>
          <a:stretch/>
        </p:blipFill>
        <p:spPr>
          <a:xfrm>
            <a:off x="7442280" y="468468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18"/>
          <a:stretch/>
        </p:blipFill>
        <p:spPr>
          <a:xfrm>
            <a:off x="1979640" y="5033880"/>
            <a:ext cx="14032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19"/>
          <a:stretch/>
        </p:blipFill>
        <p:spPr>
          <a:xfrm>
            <a:off x="4705200" y="5037120"/>
            <a:ext cx="1403640" cy="295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0"/>
          <a:stretch/>
        </p:blipFill>
        <p:spPr>
          <a:xfrm>
            <a:off x="8151840" y="5033880"/>
            <a:ext cx="9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1"/>
          <a:stretch/>
        </p:blipFill>
        <p:spPr>
          <a:xfrm>
            <a:off x="2050920" y="5394240"/>
            <a:ext cx="9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2"/>
          <a:stretch/>
        </p:blipFill>
        <p:spPr>
          <a:xfrm>
            <a:off x="4500720" y="5394240"/>
            <a:ext cx="971280" cy="293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3"/>
          <a:stretch/>
        </p:blipFill>
        <p:spPr>
          <a:xfrm>
            <a:off x="7843680" y="5394240"/>
            <a:ext cx="1079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5:5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